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B1A-643E-43FB-B5FD-74D8075B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F7-AD64-421A-B000-69246FDE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D2E-CBD9-4A9E-8D9E-8E882F9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26E-D267-44A6-84DF-5B33AD3D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0AD-4684-445E-BFE6-6A231800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911E-BED1-4B45-998F-18AFC6A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E1DB-E597-452C-8DF8-AFFB9EE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0CC4-3C1B-4518-B733-0030209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AA26-BA80-4BDF-98F6-A6E0BC3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4D0-69D5-4DAE-B40A-B2C9454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F32-6832-4250-957A-470F64C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CA5-5BF0-4DF3-985B-E85CF5B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619B-B0FD-416B-AA8E-801886B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FEC5-2CE4-4F1A-80C1-1389FDD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BC7-872F-4BC2-953F-C18386B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23CB-B1A1-406E-9488-C1E6F5FB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A0E-8F68-4994-9D43-B6C44756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B3F-91D8-42BF-8267-53DF5BBD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BE1-6988-4E25-8141-F70D9817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CCA-0CF0-41DE-9123-B4E07AF5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B67-1517-4BB7-AC0B-91FC7B07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9FD-9C20-4313-9B5C-73B5B5E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EB1-AB81-48C8-A14A-2A2FFC5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906-8D82-4D24-984C-410B4BA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173-5FC5-46BD-BDD2-426B5CB097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3E1C-5E4C-4F75-BCEF-6B310A2D2E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7;&#1086;&#1088;&#1072;" TargetMode="External"/><Relationship Id="rId2" Type="http://schemas.openxmlformats.org/officeDocument/2006/relationships/hyperlink" Target="http://www.pravoslavie.ru/put/meteora.htm" TargetMode="External"/><Relationship Id="rId3" Type="http://schemas.openxmlformats.org/officeDocument/2006/relationships/hyperlink" Target="http://www.edwebproject.org/balkans/meteora.html" TargetMode="External"/><Relationship Id="rId4" Type="http://schemas.openxmlformats.org/officeDocument/2006/relationships/hyperlink" Target="http://www.wdbydana.com/meteora.htm" TargetMode="External"/><Relationship Id="rId5" Type="http://schemas.openxmlformats.org/officeDocument/2006/relationships/hyperlink" Target="http://www.ippo.ru/novosti-2009-g./monastyri-meteory-paryat-v-vozduhe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а – монастыри «парящие в воздух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50352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уль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янова Е. 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5654520"/>
            <a:ext cx="108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сновополагающий вопр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ую ценность несет в себе красо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то мы можем узнать?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онастыри Мете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чего и кем они создавал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значение для человечества они имеют в настоящее врем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идактические цел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комление ребят с таким уникальным явлением, как монастыри Метеора. Объяснить их природное, культурное и духовное 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еодическ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самостоятельно собирать информацию, рассуждать и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-репорт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ельность составляет от одного до двух уро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водный урок, показ презентации уч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иск материалов учениками, работа над презентацией, составление фото-репортажа, написание эссе и сочи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рок подведения итогов. Показ учащимися своих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нет ресур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ете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pravoslavie.ru/put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edwebproject.org/balkans/meteora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wdbydana.com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ippo.ru/novosti-2009-g./monastyri-meteory-paryat-v-vozduhe.htm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0T18:58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